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AC7-D7A2-4185-B02D-B2278F31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E7E-4D81-40C9-8F96-AFC71AF3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056A0-2FE1-4276-87CA-5FC71570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934A7-42E3-409E-89A0-A11D46EB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D3729-AF7F-49A4-8ECA-A1BFE868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DEDB0-18DB-4FE7-8AFB-ED0F18D1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788EB-71CE-459E-8A6F-EFFCFAF9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F470F-66A3-4C00-9B69-FB05A1F6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6EE0A-1A06-46E5-B563-D203CDC0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DE6A9-C07D-475C-A97F-EC778CF9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036A9-A05E-41F5-9887-73BE03C5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19083-2FEF-4E5F-A57E-6BE2161E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C01-9587-464D-8F07-EDA2E926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63352-599C-4049-9064-61BA1649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46641-3CD4-44E9-8EAC-7852911C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8A55D-72E8-498B-A041-2CBCDC1E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2889B-2C29-43ED-993E-47C08C5A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CA640-D174-47DE-BF78-F9140132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CC130-D115-459E-A9A8-9EAAAED7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EE6A8-A545-4CEA-AAD8-CF1ED8C2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DE014-AE2D-4C76-B088-5F154AEE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990C6-FA34-4DEB-A8F8-8CE0F1AF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F5C60-991B-444C-B097-1363AF37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3AC-29C4-4332-BED2-53119A88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4085B-FDAA-4AF7-8A04-66F25E23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EF13F-6907-4823-853F-82AEDF7F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0AE6F-A2E4-4B89-81E1-10C184EC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34C17-805F-41DE-A92D-01474E6A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3C1A7-5214-4718-BA04-569C64AC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8DECA-4A2D-4A39-9E3E-F3742CE2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7BB3B-3910-45C9-837C-A1172CDF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70A45-E874-4691-BFF0-AA481CE7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05D38-E938-479A-A46F-72489AB9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1456B-2680-468F-911E-22945676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EC75-7073-498F-B131-6DF87887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2A419-070C-45FD-9F68-29787B76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63FFC-86A9-4908-9E56-89B39EAD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B1728-2AA5-40AA-996F-A1810E60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1F770-47C5-4D21-BB3F-0DFC605B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19AE4-5A0E-446C-8DA9-1F93C830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7DBFF-DCF4-4DCD-87D3-4899EBDF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3E579-73DC-419D-B8AC-F06BD9E0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7E9D6-BC4C-4D0C-87AA-D3210551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A4F86-E1D3-4CD5-99CE-1D6650CD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67BE1-002B-40D3-9F2D-90BC7208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E900-622F-4CA6-807F-E2F52098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FB932-3FD3-44E6-ACB8-4048C2E3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CAF25-5CED-459C-8319-CB50EA05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BE52E-15ED-4630-981D-A32C588B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0A365-BD34-4ED0-A97F-6EA768C0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EB9AC-B92D-40BB-95D0-B84151B3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4245-CA2F-42DA-9017-56441EF6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471C-C2F3-45A1-B366-BD385BEA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9D31-3EB1-4456-867E-DCC70E32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7554-8D8D-4B70-B52D-4F184B10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C97B-112A-4C86-8A34-19409740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28E-B2B6-4443-ABD3-EF30E492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9A6A-DCEE-4A52-B589-7FD1331E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6BB5-A099-4BEE-89FE-D6BB3CEC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DC26-69C3-45B9-B571-B54AF802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B4C6-0608-49D3-AAFC-CA678269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F9B9-26A0-49C3-A697-FBB42FD1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7D409-66D9-43D8-ACE2-2ABF939B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665CE-6149-4FBD-BA31-9C71EA1C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39055-2AC5-4D9A-A596-E0F56638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8C86E-EC19-43CD-BB7F-80B378FF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41DE1-E8E4-4457-8BA5-AD8FDFC5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045-217F-480F-840F-460BD8D7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A965-A9E4-463F-BDE1-D4E4A0FA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9D360-9E85-4506-B95F-07A2A68C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3C38-29FF-4080-92AD-E4900C52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9536-2E71-49D6-A1EF-E4C49CDD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63BDA-CEB3-47BC-8AA0-CF54296A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4FEF1-A516-4F03-9E40-B57665BB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B502F-76CA-4D6A-B399-1991F551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E5C7A-F7C4-48B0-BA06-532A7AEF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2A477-9604-4D09-A5C9-D823AB6C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31F49-82C6-4D2E-81C0-35604530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49BA-5B9A-439D-8D8E-C03A919D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7018A-8A51-428E-B49A-E5573F97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90228-7FC5-4807-8519-BBA92BA4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CF11E-AA23-4C7E-BDAC-9CFED82F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77B2-9FE7-465E-9B14-9ED73BC7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81C92-4D42-48C1-BAE6-FBEFB595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20C83-89EF-4766-829E-0B198A67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6E11-32DB-44FB-807F-F5BD9D9C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AC527-ADF4-4D0B-A9DF-E5EB7E37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2CA09-B438-445C-A28E-FD84F623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234A3-9164-4AFA-AA7D-6956372E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916-9A02-424A-9413-C6E8D595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B6108-7CF0-4E7C-97FD-FEFBA6FA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43E83-F818-45E5-BEA4-F36E7FEA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BEF01-838D-4970-BCBB-83A9284A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E24C8-B023-4CE2-AA28-EBC024BE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BF880-EF62-4F73-9DF1-BE86C2D0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47C7E-FC42-41AB-8559-C6A1D1FF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C6FCF-5D12-4F38-855A-14E4CF20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AB272-C437-483F-ADD8-25A89497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FF8F6-B6DD-409E-84C6-64766EA9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8E2C3-2CC1-4247-862C-FC938636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780-D9CF-4E99-A733-002502D6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4118A-4BB1-4467-92DF-F5DCA000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FF7D2-D38A-4E71-8548-3DC5A4CB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A642A-B272-46C6-8284-80F43B40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5F451-F611-43D6-AAF1-258345D4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52206-8F4E-4AF3-AF7E-658907D2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0F9D7-264F-4270-8E7A-E19CCC98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0227D-B1C0-48FD-B6C8-6C3B1F26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F9F36-7979-46D3-803B-55D7AC88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B4750-1272-4A80-A864-553B25B2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B6096-1C1C-41A9-A458-3B72AF02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67B-6C33-4DDE-B812-1795592D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6C606-C330-4056-854D-9B96CC84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2E4A0-BE23-4D39-9977-C92EEBF8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5CD4B-7505-40A7-AED0-03C2C168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A2742-DA08-462F-AC38-FCE71F1F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7C960-A914-4828-A78E-20EEF7B4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5E1B6-A3E9-4E13-9455-E1B6FDD7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D7A5B-9827-48A8-A10D-8D2F2C48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256DE-DB1B-4016-8457-81110C61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4F845-345F-4472-83C4-1E042DF5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5EA37-F07B-4CF8-A4F7-E3F7F191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D57-9F7D-4E33-A80D-5C364C04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76608-9E2B-4987-9F98-332C8E85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F7241-8636-4056-AF9D-18A9DA1E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D7C86-AC8C-4DF6-94F1-F733BAB9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D8D75-AA9F-4CB3-9C32-213AAE5A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DE43D-CA42-489B-9F65-EEC6E389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09C15-288C-41B7-9C82-D2F7B83F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AA8D2-3A32-465B-904C-31E7F6DC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D5FD0-16CA-4BF6-A703-CEEF8B40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181A8-F9FD-47DF-8480-F63FE22C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2F7F2-35F7-4AC7-AFC7-D6F767B6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4D3-CC56-4871-A97B-F4659E0E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A9B26-4A56-4036-B80E-2FA3AD7B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D19D1-E3B0-42E3-BEA0-311A7A59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D17D1-A98B-46D2-9BC5-521000F5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7EFDC-CED8-4383-90FE-4FD656E5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F3FC2-06AA-462C-BDFF-8F0DFB23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B73DF-D1E3-41F6-BD05-A7E5668B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D59C7-8FAD-4E62-BD94-BC3B64CF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E87F1-D89F-44FB-88A9-B3B46049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F233D-7658-472F-9A5D-1B7773C3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79FD4-C94B-4CB8-A533-80C992A3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07E4-5705-4498-8536-271895B0556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B4AC-0CE3-4340-A44B-5FB98C40945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A422-FF13-4960-BAEE-A3F3590AC54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5CF0-BFDA-4277-87D1-C2F076FBF3B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4BBD-A0AF-4E22-9B3C-716AA396BCC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FFC1-2B22-45C8-A3DF-6D4D2EB8EF6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037D-AC79-4BDC-B816-80565D435EE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68" name="Slika 7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1377-F5B2-4C4A-99D5-C7FCB3BC9EB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681C-2059-4E03-A9E5-EE69272D3CD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EDEE-E41E-4DE1-9ECD-DE524501706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7AC3-DD1C-4835-A759-F03DF6E3416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9D7C-5D75-476B-8A7D-74445DF6B17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Sila tre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2"/>
          <p:cNvSpPr/>
          <p:nvPr/>
        </p:nvSpPr>
        <p:spPr>
          <a:xfrm>
            <a:off x="340920" y="1523880"/>
            <a:ext cx="7270200" cy="10990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lika je sila trenja između sanduka težine 300 N i pod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ktor trenja između sanduka i poda iznosi 0,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"/>
          <p:cNvSpPr/>
          <p:nvPr/>
        </p:nvSpPr>
        <p:spPr>
          <a:xfrm>
            <a:off x="990720" y="2819520"/>
            <a:ext cx="441936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300 N; 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0,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t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t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30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Slika 1" descr=""/>
          <p:cNvPicPr/>
          <p:nvPr/>
        </p:nvPicPr>
        <p:blipFill>
          <a:blip r:embed="rId1"/>
          <a:stretch/>
        </p:blipFill>
        <p:spPr>
          <a:xfrm>
            <a:off x="281160" y="1023840"/>
            <a:ext cx="10159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3"/>
          <p:cNvSpPr/>
          <p:nvPr/>
        </p:nvSpPr>
        <p:spPr>
          <a:xfrm>
            <a:off x="263160" y="1676520"/>
            <a:ext cx="68252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sila trenj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avedi primjere kad je trenje korisno i nepoželj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čemu ovisi sila trenj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iskazujemo faktorom trenj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Slika 1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446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4"/>
          <p:cNvSpPr/>
          <p:nvPr/>
        </p:nvSpPr>
        <p:spPr>
          <a:xfrm>
            <a:off x="380880" y="1447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se gume automobila zagriju pri kočenj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je lakše hodati po asfaltu nego po led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657600" cy="27399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28638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360" y="736200"/>
            <a:ext cx="64292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hr-HR" sz="3600" spc="-1" strike="noStrike">
                <a:solidFill>
                  <a:srgbClr val="17375e"/>
                </a:solidFill>
                <a:latin typeface="Arial"/>
                <a:ea typeface="Arial"/>
              </a:rPr>
              <a:t>Sila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Arial"/>
              </a:rPr>
              <a:t> tre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3"/>
          <p:cNvSpPr/>
          <p:nvPr/>
        </p:nvSpPr>
        <p:spPr>
          <a:xfrm>
            <a:off x="428760" y="1447920"/>
            <a:ext cx="744336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7375e"/>
                </a:solidFill>
                <a:latin typeface="Arial"/>
                <a:ea typeface="Arial"/>
              </a:rPr>
              <a:t>Tre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ko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ežava klizanje ili kotrljanje jednog tijel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vršini drug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trenja djeluje suprotno od smjera gibanja tij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8"/>
          <p:cNvGrpSpPr/>
          <p:nvPr/>
        </p:nvGrpSpPr>
        <p:grpSpPr>
          <a:xfrm>
            <a:off x="1236240" y="5486400"/>
            <a:ext cx="4582080" cy="633240"/>
            <a:chOff x="1236240" y="5486400"/>
            <a:chExt cx="4582080" cy="633240"/>
          </a:xfrm>
        </p:grpSpPr>
        <p:sp>
          <p:nvSpPr>
            <p:cNvPr id="512" name="TextBox 4"/>
            <p:cNvSpPr/>
            <p:nvPr/>
          </p:nvSpPr>
          <p:spPr>
            <a:xfrm>
              <a:off x="1236240" y="5553000"/>
              <a:ext cx="311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znaka za silu trenj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3" name="Straight Arrow Connector 22"/>
            <p:cNvCxnSpPr/>
            <p:nvPr/>
          </p:nvCxnSpPr>
          <p:spPr>
            <a:xfrm>
              <a:off x="4495680" y="5790960"/>
              <a:ext cx="5007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514" name="Object 2"/>
                <p:cNvSpPr txBox="1"/>
                <p:nvPr/>
              </p:nvSpPr>
              <p:spPr>
                <a:xfrm>
                  <a:off x="5105880" y="5486400"/>
                  <a:ext cx="71244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3"/>
          <p:cNvSpPr/>
          <p:nvPr/>
        </p:nvSpPr>
        <p:spPr>
          <a:xfrm>
            <a:off x="603720" y="85716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e na tijelo pri guranju ili vuče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935640" y="4800600"/>
            <a:ext cx="7171200" cy="1373400"/>
          </a:xfrm>
          <a:prstGeom prst="rect">
            <a:avLst/>
          </a:prstGeom>
          <a:noFill/>
          <a:ln w="93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ila trenja ima isti iznos kao i sila koja gura tijel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a suprotno je usmjeren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581560" cy="18954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54673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4304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Trenje klizanja i kotrlj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rcRect l="0" t="0" r="0" b="54726"/>
          <a:stretch/>
        </p:blipFill>
        <p:spPr>
          <a:xfrm>
            <a:off x="762120" y="2048040"/>
            <a:ext cx="3581280" cy="12286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2"/>
          <a:srcRect l="0" t="41796" r="0" b="0"/>
          <a:stretch/>
        </p:blipFill>
        <p:spPr>
          <a:xfrm>
            <a:off x="4952880" y="1752480"/>
            <a:ext cx="3584520" cy="1486080"/>
          </a:xfrm>
          <a:prstGeom prst="rect">
            <a:avLst/>
          </a:prstGeom>
          <a:ln w="0">
            <a:noFill/>
          </a:ln>
        </p:spPr>
      </p:pic>
      <p:sp>
        <p:nvSpPr>
          <p:cNvPr id="522" name="TextBox 6"/>
          <p:cNvSpPr/>
          <p:nvPr/>
        </p:nvSpPr>
        <p:spPr>
          <a:xfrm>
            <a:off x="804600" y="3505320"/>
            <a:ext cx="68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la trenja pri kotrljanju manja je nego pri klizan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ležaj"/>
          <p:cNvPicPr/>
          <p:nvPr/>
        </p:nvPicPr>
        <p:blipFill>
          <a:blip r:embed="rId3"/>
          <a:stretch/>
        </p:blipFill>
        <p:spPr>
          <a:xfrm>
            <a:off x="990720" y="411480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7"/>
          <p:cNvSpPr/>
          <p:nvPr/>
        </p:nvSpPr>
        <p:spPr>
          <a:xfrm>
            <a:off x="3102840" y="5672160"/>
            <a:ext cx="21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uglični ležaj smanjuje tre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"/>
          <p:cNvSpPr/>
          <p:nvPr/>
        </p:nvSpPr>
        <p:spPr>
          <a:xfrm>
            <a:off x="0" y="144792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nost sile trenja o težini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7"/>
          <p:cNvSpPr/>
          <p:nvPr/>
        </p:nvSpPr>
        <p:spPr>
          <a:xfrm>
            <a:off x="5221080" y="2666880"/>
            <a:ext cx="329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trenja razmjerna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žini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4"/>
              <p:cNvSpPr txBox="1"/>
              <p:nvPr/>
            </p:nvSpPr>
            <p:spPr>
              <a:xfrm>
                <a:off x="6095880" y="4038480"/>
                <a:ext cx="15242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8" name="Picture 6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4086360" cy="3162600"/>
          </a:xfrm>
          <a:prstGeom prst="rect">
            <a:avLst/>
          </a:prstGeom>
          <a:ln w="0">
            <a:noFill/>
          </a:ln>
        </p:spPr>
      </p:pic>
      <p:pic>
        <p:nvPicPr>
          <p:cNvPr id="529" name="Slika 2" descr=""/>
          <p:cNvPicPr/>
          <p:nvPr/>
        </p:nvPicPr>
        <p:blipFill>
          <a:blip r:embed="rId2"/>
          <a:stretch/>
        </p:blipFill>
        <p:spPr>
          <a:xfrm>
            <a:off x="152280" y="911160"/>
            <a:ext cx="1328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4"/>
          <p:cNvSpPr/>
          <p:nvPr/>
        </p:nvSpPr>
        <p:spPr>
          <a:xfrm>
            <a:off x="0" y="144792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nost sile trenja o ploštini dodirnih p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7"/>
          <p:cNvSpPr/>
          <p:nvPr/>
        </p:nvSpPr>
        <p:spPr>
          <a:xfrm>
            <a:off x="2624040" y="5562720"/>
            <a:ext cx="59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tre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 ovisi o ploštini dodirnih p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7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807000" cy="3124080"/>
          </a:xfrm>
          <a:prstGeom prst="rect">
            <a:avLst/>
          </a:prstGeom>
          <a:ln w="0">
            <a:noFill/>
          </a:ln>
        </p:spPr>
      </p:pic>
      <p:pic>
        <p:nvPicPr>
          <p:cNvPr id="533" name="Slika 1" descr=""/>
          <p:cNvPicPr/>
          <p:nvPr/>
        </p:nvPicPr>
        <p:blipFill>
          <a:blip r:embed="rId2"/>
          <a:stretch/>
        </p:blipFill>
        <p:spPr>
          <a:xfrm>
            <a:off x="228600" y="890640"/>
            <a:ext cx="13287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4"/>
          <p:cNvSpPr/>
          <p:nvPr/>
        </p:nvSpPr>
        <p:spPr>
          <a:xfrm>
            <a:off x="0" y="144792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nost sile trenja o hrapavosti dodirnih površ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4707360" y="3048120"/>
            <a:ext cx="382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tre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je to veća što 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dirne plohe hrapav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429000" cy="4113360"/>
          </a:xfrm>
          <a:prstGeom prst="rect">
            <a:avLst/>
          </a:prstGeom>
          <a:ln w="0">
            <a:noFill/>
          </a:ln>
        </p:spPr>
      </p:pic>
      <p:pic>
        <p:nvPicPr>
          <p:cNvPr id="537" name="Slika 1" descr=""/>
          <p:cNvPicPr/>
          <p:nvPr/>
        </p:nvPicPr>
        <p:blipFill>
          <a:blip r:embed="rId2"/>
          <a:stretch/>
        </p:blipFill>
        <p:spPr>
          <a:xfrm>
            <a:off x="228600" y="874800"/>
            <a:ext cx="13287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Zakon tr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3"/>
          <p:cNvSpPr/>
          <p:nvPr/>
        </p:nvSpPr>
        <p:spPr>
          <a:xfrm>
            <a:off x="228600" y="1305000"/>
            <a:ext cx="8839080" cy="1739880"/>
          </a:xfrm>
          <a:prstGeom prst="rect">
            <a:avLst/>
          </a:prstGeom>
          <a:solidFill>
            <a:srgbClr val="dbeef4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trenja ovisi o težini tijela i hrapavosti podloge ,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e ovisi o veličini dodirnih površina.  Na horizontalnoj podlozi jednaka je umnošku faktora trenja i težine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2"/>
              <p:cNvSpPr txBox="1"/>
              <p:nvPr/>
            </p:nvSpPr>
            <p:spPr>
              <a:xfrm>
                <a:off x="3306600" y="3286080"/>
                <a:ext cx="2171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TextBox 5"/>
          <p:cNvSpPr/>
          <p:nvPr/>
        </p:nvSpPr>
        <p:spPr>
          <a:xfrm>
            <a:off x="736560" y="4500720"/>
            <a:ext cx="528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Faktor trenja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 čitamo: mi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 omjer između sile trenja i tež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visi o vrsti materijala dodirnih p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55:15Z</dcterms:modified>
  <cp:revision>51</cp:revision>
  <dc:subject/>
  <dc:title>Slide 1</dc:title>
</cp:coreProperties>
</file>